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8B9-C234-4E64-9BBD-A718EA10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B3E-020F-45EE-9FCF-1801795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6CA-C9E4-440A-905B-503FC74E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490-E635-4001-BE1F-9A60C56D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491C-D506-4383-9D95-236AAEF5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998-36D3-4613-AE12-68B858E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A830-698A-4E61-ABED-C26F1FA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1B3E-61D0-4CDA-9330-5C2DC7C9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A9BD-E372-4B7F-8952-DF7DC437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27F-A7EC-4D39-93D9-8CCE777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CA66-23CA-47FF-8AFC-6DC56609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B19-8B10-49B5-B006-83CFE287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EB4A-9C11-4A4B-8B8A-13917DA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D1F9-2F1A-4506-8619-3684883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0CFE-32FC-4295-9BAF-9D847E9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F0E-9E2C-4072-86D7-24516111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D322-5CC9-4B1F-9E34-E41DEF78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4850-DC75-4D48-9F44-A77E423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F474-F06F-46AA-A268-0A1241B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2054-62BB-44C6-AF13-DE9DC2CF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941C-1BEE-45C0-BA6C-09EF310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D7C4-B0CD-4D28-9A70-BF6F1692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E3E-D0D4-4494-9BBE-5A1637FD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FC91-F499-46B4-B672-B554992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2654-8A95-4B16-88E4-0A6575E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41BB-1F10-4B88-A90D-2A355F4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F0B1-5B63-44AE-AD52-17EF23B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43FA-E029-4325-9E68-A633F584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D67E-8D24-43EA-A08D-299438DA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BDBC-FD9A-465A-8170-04062920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9112-5AA2-4231-9D3E-8C156DEE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55F2-D8F2-444D-AFDA-CF41E012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9333-4ED7-4FCF-B75F-816CA7C0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FDE-C849-48FD-A20A-49BF5AE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8848-6BC5-4ACE-9789-30DDDFE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14EE-952B-4A63-9031-71199D3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960D7-CA09-4DBF-A417-D422BB7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F52D-8A19-4F9F-92F3-CD55E7E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D31C-FC5D-42C0-94EE-0D7DD60E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849A-1C62-4D30-AC16-406F706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1C2D-0ECA-4E57-A746-6DEC468D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9CE5-783B-4B3B-9756-00CEE0A7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CCAB-BB5A-4BA6-A1A7-C724FD0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2663-4E3F-4BEF-A491-7F7B36B2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8A4-0F5E-4859-967C-82C8C3BA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40F3-129C-4DCE-A6F4-4B30BD71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EAC5-ECA0-44E4-A8E3-8BD52EE2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39A4-AD66-4368-8D53-C4EF440A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EBA7-174F-4474-B566-B07A58A7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1B28-4A8B-47BF-9F4A-BBBF665C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7A2C-F9E6-4244-897A-8D59767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78DC-CD88-4060-A06D-929D163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B4D3-FE8E-4F89-8951-2786260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D9629-2713-4966-B917-6BA221FF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E25B-E032-4C5D-9CAB-6B16E5DB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A43-E573-4AE1-934C-A6CF681C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D910-03C1-4988-9279-22C04A6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712A-56E0-4D7E-8661-014FCE37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6F2E0-E05A-430D-8CE5-2C7C7D48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42A9E-E04E-4D19-BF1D-E3A203CD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C464-E9BC-4633-87C3-C74AA3BF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9A95-A34C-4BDA-A204-F098F824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51E4-82C4-4B1D-9F9F-9DCF3B0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3C8B-8A76-47F7-B5DA-0302B2E2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517F1-FF46-4118-890D-EA7CDB0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8769-B266-4A79-BC4A-51BE157A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E2A-3036-40B4-ADA5-F5CF998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0CDA-FCE7-4BEA-A9F1-CD4C65C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6DF7-D6A2-4FDF-AAF6-4C94F289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8143-54E9-44C6-89B7-41527D5D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B83E5-C36A-4B36-ADA7-580B7692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B6E8A-DA9D-4368-B7F0-EEEBC9E0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63EB-D0F6-4D4A-8B0D-F79CB0D6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F887-366E-4DD2-A402-D015AF2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6944-96DE-45C0-BC69-2D2391B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2716-CD84-4062-B7DC-B0B8731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4042-44D0-4D84-A49C-EC07E58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40B-FB22-46B6-9481-A8A0A99F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56C8-A2A8-4A48-AF26-D5D9310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D3672-3B81-4445-A53D-5FD4C56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36762-C1E0-47DE-A048-E906761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CEDD-5CF9-4CC2-AF24-30EF9A4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1F7D4-D2B9-418A-BE2A-69010C4D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4147-E05E-449C-AD49-C26C5FE5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9B58-36C1-4569-A2A4-F7766C0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E94C-1EF0-4780-B505-FF63225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3062D-2BDA-45D6-9DFC-8841BDA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1C283-49E0-4230-84B0-ABA3D025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330-668F-401C-B5BD-364771F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67E09-F8CA-414E-AA76-31F5755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1DEE8-11C2-4363-BFB3-3F08E2F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864D3-25EB-4E06-BBC0-A0D738F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48984-AB94-41A5-9097-A53A35F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7AA8A-CC35-4C39-A7F0-6526A11C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955C-77A3-4E62-ADD0-FFDD597E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5B42-D955-49CE-9B11-D6C28417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25C2-5672-4729-9061-B2ACB2C5A6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AE5B-BD91-4E65-8EDC-9E0959B2B19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3F9-C141-4E52-80EF-131587054E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C8A5-D891-4107-93AF-943E7CD0EC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2C6-B96F-4C10-844F-EAF8F2173E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C65A-A230-45C2-9E58-6A9BC0491F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17B-D3F0-4E49-BE32-34820BBEF1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C92F-8A81-4B9F-A071-51BFC42AD57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it for Vicki to approve you as a member of our class wiki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5" name="Picture 5" descr="Waitfor vicki.png"/>
          <p:cNvPicPr/>
          <p:nvPr/>
        </p:nvPicPr>
        <p:blipFill>
          <a:blip r:embed="rId1"/>
          <a:stretch/>
        </p:blipFill>
        <p:spPr>
          <a:xfrm>
            <a:off x="1295280" y="25146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ikispace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wikispaces home.jpg"/>
          <p:cNvPicPr/>
          <p:nvPr/>
        </p:nvPicPr>
        <p:blipFill>
          <a:blip r:embed="rId3"/>
          <a:stretch/>
        </p:blipFill>
        <p:spPr>
          <a:xfrm>
            <a:off x="1066680" y="2057400"/>
            <a:ext cx="6838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Sign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wikispaces home.jpg"/>
          <p:cNvPicPr/>
          <p:nvPr/>
        </p:nvPicPr>
        <p:blipFill>
          <a:blip r:embed="rId2"/>
          <a:stretch/>
        </p:blipFill>
        <p:spPr>
          <a:xfrm>
            <a:off x="1143000" y="2133720"/>
            <a:ext cx="6838920" cy="3971880"/>
          </a:xfrm>
          <a:prstGeom prst="rect">
            <a:avLst/>
          </a:prstGeom>
          <a:ln w="0">
            <a:noFill/>
          </a:ln>
        </p:spPr>
      </p:pic>
      <p:cxnSp>
        <p:nvCxnSpPr>
          <p:cNvPr id="378" name="Straight Arrow Connector 16"/>
          <p:cNvCxnSpPr/>
          <p:nvPr/>
        </p:nvCxnSpPr>
        <p:spPr>
          <a:xfrm flipV="1">
            <a:off x="5638680" y="3352320"/>
            <a:ext cx="99144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make new ac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Picture 3" descr="Wikisign in.png"/>
          <p:cNvPicPr/>
          <p:nvPr/>
        </p:nvPicPr>
        <p:blipFill>
          <a:blip r:embed="rId1"/>
          <a:stretch/>
        </p:blipFill>
        <p:spPr>
          <a:xfrm>
            <a:off x="914400" y="2209680"/>
            <a:ext cx="7313760" cy="4229280"/>
          </a:xfrm>
          <a:prstGeom prst="rect">
            <a:avLst/>
          </a:prstGeom>
          <a:ln w="0">
            <a:noFill/>
          </a:ln>
        </p:spPr>
      </p:pic>
      <p:cxnSp>
        <p:nvCxnSpPr>
          <p:cNvPr id="382" name="Straight Arrow Connector 5"/>
          <p:cNvCxnSpPr/>
          <p:nvPr/>
        </p:nvCxnSpPr>
        <p:spPr>
          <a:xfrm flipH="1">
            <a:off x="4342680" y="3808800"/>
            <a:ext cx="1524600" cy="305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no to make a wiki. Click j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Joinwiki.png"/>
          <p:cNvPicPr/>
          <p:nvPr/>
        </p:nvPicPr>
        <p:blipFill>
          <a:blip r:embed="rId2"/>
          <a:stretch/>
        </p:blipFill>
        <p:spPr>
          <a:xfrm>
            <a:off x="1219320" y="2819520"/>
            <a:ext cx="6684840" cy="3114720"/>
          </a:xfrm>
          <a:prstGeom prst="rect">
            <a:avLst/>
          </a:prstGeom>
          <a:ln w="0">
            <a:noFill/>
          </a:ln>
        </p:spPr>
      </p:pic>
      <p:cxnSp>
        <p:nvCxnSpPr>
          <p:cNvPr id="386" name="Straight Arrow Connector 6"/>
          <p:cNvCxnSpPr/>
          <p:nvPr/>
        </p:nvCxnSpPr>
        <p:spPr>
          <a:xfrm flipH="1">
            <a:off x="4343040" y="2970720"/>
            <a:ext cx="9914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username at 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5"/>
          <p:cNvCxnSpPr/>
          <p:nvPr/>
        </p:nvCxnSpPr>
        <p:spPr>
          <a:xfrm>
            <a:off x="1523520" y="1981080"/>
            <a:ext cx="266796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your class as a favorite wik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943600" cy="4110120"/>
          </a:xfrm>
          <a:prstGeom prst="rect">
            <a:avLst/>
          </a:prstGeom>
          <a:ln w="0">
            <a:noFill/>
          </a:ln>
        </p:spPr>
      </p:pic>
      <p:cxnSp>
        <p:nvCxnSpPr>
          <p:cNvPr id="394" name="Straight Arrow Connector 5"/>
          <p:cNvCxnSpPr/>
          <p:nvPr/>
        </p:nvCxnSpPr>
        <p:spPr>
          <a:xfrm flipH="1">
            <a:off x="4343040" y="2057040"/>
            <a:ext cx="1753200" cy="19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class wiki na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43600" cy="3504960"/>
          </a:xfrm>
          <a:prstGeom prst="rect">
            <a:avLst/>
          </a:prstGeom>
          <a:ln w="0">
            <a:noFill/>
          </a:ln>
        </p:spPr>
      </p:pic>
      <p:cxnSp>
        <p:nvCxnSpPr>
          <p:cNvPr id="398" name="Straight Arrow Connector 5"/>
          <p:cNvCxnSpPr/>
          <p:nvPr/>
        </p:nvCxnSpPr>
        <p:spPr>
          <a:xfrm flipH="1">
            <a:off x="2666160" y="1980000"/>
            <a:ext cx="1677240" cy="839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Join This Wiki to become a 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memberwiki.png"/>
          <p:cNvPicPr/>
          <p:nvPr/>
        </p:nvPicPr>
        <p:blipFill>
          <a:blip r:embed="rId2"/>
          <a:stretch/>
        </p:blipFill>
        <p:spPr>
          <a:xfrm>
            <a:off x="914400" y="2514600"/>
            <a:ext cx="73137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402" name="Straight Arrow Connector 8"/>
          <p:cNvCxnSpPr/>
          <p:nvPr/>
        </p:nvCxnSpPr>
        <p:spPr>
          <a:xfrm flipH="1">
            <a:off x="2437920" y="2208600"/>
            <a:ext cx="1524960" cy="1143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6:04Z</dcterms:created>
  <dc:creator> </dc:creator>
  <dc:description/>
  <dc:language>en-US</dc:language>
  <cp:lastModifiedBy> </cp:lastModifiedBy>
  <dcterms:modified xsi:type="dcterms:W3CDTF">2011-01-23T01:31:08Z</dcterms:modified>
  <cp:revision>4</cp:revision>
  <dc:subject/>
  <dc:title>Wikispaces Accounts</dc:title>
</cp:coreProperties>
</file>